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F87-D129-437C-93F3-745CB6EC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A0C-6677-4F77-B32C-C1737A1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557-A15E-466B-930E-BEF7F29E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9CF-310C-4AA6-9B8A-42565DC9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A450-E467-44FD-990A-EF58651A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D84F-3169-4D52-BB09-0D1231B3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2673-DF95-4BC3-8C19-B3EC5EA3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E9F8-D75E-4D29-8117-F163C7C4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62EC-E0AC-43E4-B877-2C86BADB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DFD5-254E-4B5F-AB9A-66C93E9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76FF-214E-4A43-9296-DC7E0E6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B6C-D777-4E43-866B-D14B04F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4D13-AEFC-47AB-AC1D-7074EA6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406-2E0D-4A39-8365-EC78708E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E358-BE01-4EF7-82E0-C0FED505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9844-74F5-4FEB-8A7F-209C116A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7D18-79FF-4E27-9FDA-03BF1CB9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0DD-199F-4D4B-85EB-B4D4704F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D9E-7547-45D9-BF98-6DD7ABE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8A1-BFB7-4276-8C49-7C9FA21B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F8D-40E3-4129-8E6E-33408525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2A4-EA1B-4722-90FE-4C928034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C53-4042-4330-8B9E-3DC412A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604-099E-4676-AC49-757E24D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1027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D00F-35B0-40E6-99ED-1DFBDA173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7445-BCE0-43F1-9DFE-AF8B1F7DD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cument Based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DB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C:\Documents and Settings\amckellin\Application Data\Microsoft\Media Catalog\Downloaded Clips\cla5\j0412754.wmf"/>
          <p:cNvPicPr/>
          <p:nvPr/>
        </p:nvPicPr>
        <p:blipFill>
          <a:blip r:embed="rId1"/>
          <a:stretch/>
        </p:blipFill>
        <p:spPr>
          <a:xfrm>
            <a:off x="838080" y="3429000"/>
            <a:ext cx="1708200" cy="217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amckellin\Application Data\Microsoft\Media Catalog\Downloaded Clips\clad\j0433797.png"/>
          <p:cNvPicPr/>
          <p:nvPr/>
        </p:nvPicPr>
        <p:blipFill>
          <a:blip r:embed="rId2"/>
          <a:stretch/>
        </p:blipFill>
        <p:spPr>
          <a:xfrm>
            <a:off x="64771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a Document Based Questio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BQ, or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 based questions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re questions that focuses around one or more documents. The documents can be a graph, cartoon, short excerpt, picture, etc, basically anything that you can get information fr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Documents and Settings\amckellin\Application Data\Microsoft\Media Catalog\Downloaded Clips\clad\j0434859.png"/>
          <p:cNvPicPr/>
          <p:nvPr/>
        </p:nvPicPr>
        <p:blipFill>
          <a:blip r:embed="rId1"/>
          <a:stretch/>
        </p:blipFill>
        <p:spPr>
          <a:xfrm>
            <a:off x="358128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a document based question is to assess your ability to formulate (or figure out) and support an answer based on documentary evid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Documents and Settings\amckellin\Application Data\Microsoft\Media Catalog\Downloaded Clips\cla9\j0424230.wmf"/>
          <p:cNvPicPr/>
          <p:nvPr/>
        </p:nvPicPr>
        <p:blipFill>
          <a:blip r:embed="rId1"/>
          <a:stretch/>
        </p:blipFill>
        <p:spPr>
          <a:xfrm>
            <a:off x="3886200" y="4572000"/>
            <a:ext cx="14540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eaking Down DBQ</a:t>
            </a:r>
            <a:r>
              <a:rPr b="0" lang="ja-JP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some tasks you could be asked to do in a DBQ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Break a topic down into separate parts and discuss each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Make judgments. Evaluate comparative wo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xplain the exact meaning, specific to the course or su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 detailed account, listing characteristics, qualities and pa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u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rgue the pros and cons of an iss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lu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n opinion or cite the opinion of an expe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llustr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concrete examp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 brief, condensed account, including conclus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documents, analyz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tterns of tra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eriod 1000-1450. In addition, identify possib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ltural consequences of tra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is time peri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question asking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re there recognizable patter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What are the consequences of cont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04:58Z</dcterms:created>
  <dc:creator>teacher</dc:creator>
  <dc:description/>
  <dc:language>en-US</dc:language>
  <cp:lastModifiedBy>Microsoft Office User</cp:lastModifiedBy>
  <dcterms:modified xsi:type="dcterms:W3CDTF">2012-05-28T19:13:39Z</dcterms:modified>
  <cp:revision>12</cp:revision>
  <dc:subject/>
  <dc:title>Document Based Questions</dc:title>
</cp:coreProperties>
</file>